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png" ContentType="image/png"/>
  <Override PartName="/ppt/media/image7.jpeg" ContentType="image/jpeg"/>
  <Override PartName="/ppt/media/image20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AAEA5DB2-E7A1-4CF7-8E20-1BA5A822FB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82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94056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96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876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908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876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908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30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96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11       T.Tammet     IT sissejuhatus loeng 1      lk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CFB70BAF-6065-4617-813E-AB705EB12AF6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55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 ja program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täpne samm-sammuline, kuid mitte tingimata formaalne juhend millegi tegemiseks. Näit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iduretsep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uhend ruutvõrrandi lahendamise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iline probleem -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bleem, mille lahendus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b kirja panna täidetavate juhendite loetelu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formaalses, üheselt mõistetavas keeles kirja pandud algoritm. Arvutid suudavad täita ainult programm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102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loog- ja digitaal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aloog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meid salvestatakse (peegeldatakse) proportsionaalsel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: termomeeter, vinüülplaat, foto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aal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pidevad) andmed lõhutakse üksikuteks tükkideks, mis salvestatakse erald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: CD, arvutiprogramm, kiri tähtede ja bittiden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helt teisele: digital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107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nüülplaat: info analoogkuju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112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5018040" cy="3213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44784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lis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119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200720" cy="50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alse info salves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125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3680" y="720720"/>
            <a:ext cx="3676680" cy="3586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105000" y="2700360"/>
            <a:ext cx="571500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ti ehi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hiprotsesso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teeb pea kogu töö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himälu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hoiab aktiivses kasutuses olevaid programme ja andme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smälu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pikaajaliseks säilitamiseks (kõvaketas, flopid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sseadme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monitor, klaviatuur j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132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64000" y="2895480"/>
            <a:ext cx="2865600" cy="2997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90720" y="4105440"/>
            <a:ext cx="2514600" cy="180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õhiprotsessor (CPU) ja mäl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139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PU ja muud seadm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143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(and Isn’t) a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omput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device which takes data in one form, uses it, and produces a different form of information which is related to (but not the same as) the original dat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three major comparisons of computers ar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ctronic computers versus Mechanical compu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eneral-purpose versus Special-purpose compu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igital versus Analog compu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evaade kursuse eesmärkid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imumisajad, lek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andus, lisamaterjalid, viit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k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mõist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mad ja eesmärg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inevad koolkonn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60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ctronic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structed from transistors that use electricity to func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chanical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o not use electricity to func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structed of a combination of gears, levers and spring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eneral-purpose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ere not manufactured to do any one th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angeable to do any task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pecial-purpose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nufactured to do a predetermined task or set of tas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al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that functions in discretely varying quantiti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duces or gives results that are also discretely vary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alog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that functions in continuously varying quantiti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duces or gives results that are also continuously vary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038480" y="3124080"/>
            <a:ext cx="4800600" cy="682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467480" y="48006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General-Purpose Digital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General-Purpose Digital Compu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ccepts information of many kind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anges it in a way that is controlled by huma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sents results in a way usable by huma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ks algallikatest: Remingtoni revolv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57360" y="1797120"/>
            <a:ext cx="6132600" cy="331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üssitootmise tehnoloogia võimaldas: Remingtoni 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68480" y="1346040"/>
            <a:ext cx="5308560" cy="421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mehhaaniline programmeeritav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33360" y="1440000"/>
            <a:ext cx="7407360" cy="47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pist ja traadist mitteprogr.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38440" y="1878120"/>
            <a:ext cx="5769000" cy="315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mene mikroprose: intel 400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1079640"/>
            <a:ext cx="34527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uring machine: lihtne teoreetiline 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an Turingi idee, milline võiks olla lihtne universaalne arvuti: suudaks arvutada/järeldada kõike!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uringi tees: kõike, mida üldse saab mingi masinaga arvutada/järeldada, saab ka Turingi masinaga arvutad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eesmär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a kokkusurutud ülevaade infotehnoloogiast terviku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a ajalooline ülevaade IT teooria, tehnoloogia ja äri areng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tvustada edaspidiseid teemasid/kursusi stuudiumi vält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Kursus EI ÕPETA elementaarset arvutikasutamist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65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20720" y="539640"/>
            <a:ext cx="7920000" cy="576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lgub, et kõiki täpselt formuleeritud, selgeid, algoritmilisi probleeme ei saa garanteeritult algoritmiga lahendad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 alternatiivid sel juhul on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ternatiiv ü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pime sellega, et mõnes olukorras ei õnnestu vastust leid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ternatiiv ka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lime vahel juhuslikult, ehk: teeme vahel vigu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ektne arvutusmasi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160720" y="1619280"/>
            <a:ext cx="4319280" cy="457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five types of information that are the only types the computer commonly manipulat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l (picture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meric (number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aracter (text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dio (sound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ctions (program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efore the computer can use any type of information, it must be stored in the computer’s memory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blem: How is information stored within the computer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rmation is stored in numerical form within the compute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dern computers work in a system of numbers called binary numb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 number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milar to familiar decimal syste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ses only two symbols: 0 and 1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choice of using binary numbers is dictated by cost and reliability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 circuit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ctronic circuits are cheapest and most reliable if they only assume two states or conditio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se binary circuits have only two states, ON or OFF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51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 numbers use only two symbols: 0 and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 can more than two possibilities be represented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three light system can have up to eight combinations. Each combination can represent a cod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835520" y="1898640"/>
            <a:ext cx="3851280" cy="38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kursus anna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imaldab esimese semestri jooksul enamvähem aru saa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infotehnoloogia, mis on meie erial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llest edaspidistes IT kursustes juttu tule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erinevad IT teemad omavahel seotud 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teema on milleks oluline: praktikas ja teoori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IT on siiamaani arenenud ja mida võiks lähiaastatel oodat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70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inary equivalents of the numerals 0 to 7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497680" y="2556000"/>
            <a:ext cx="1553760" cy="3386520"/>
            <a:chOff x="2497680" y="2556000"/>
            <a:chExt cx="1553760" cy="3386520"/>
          </a:xfrm>
        </p:grpSpPr>
        <p:sp>
          <p:nvSpPr>
            <p:cNvPr id="203" name=""/>
            <p:cNvSpPr/>
            <p:nvPr/>
          </p:nvSpPr>
          <p:spPr>
            <a:xfrm>
              <a:off x="2498760" y="2556000"/>
              <a:ext cx="1552680" cy="3375000"/>
            </a:xfrm>
            <a:custGeom>
              <a:avLst/>
              <a:gdLst>
                <a:gd name="textAreaLeft" fmla="*/ 360 w 1552680"/>
                <a:gd name="textAreaRight" fmla="*/ 1552320 w 1552680"/>
                <a:gd name="textAreaTop" fmla="*/ 360 h 3375000"/>
                <a:gd name="textAreaBottom" fmla="*/ 3374640 h 3375000"/>
              </a:gdLst>
              <a:ahLst/>
              <a:rect l="textAreaLeft" t="textAreaTop" r="textAreaRight" b="textAreaBottom"/>
              <a:pathLst>
                <a:path w="21600" h="46945">
                  <a:moveTo>
                    <a:pt x="22" y="0"/>
                  </a:moveTo>
                  <a:arcTo wR="22" hR="22" stAng="16200000" swAng="-5400000"/>
                  <a:lnTo>
                    <a:pt x="0" y="46923"/>
                  </a:lnTo>
                  <a:arcTo wR="22" hR="22" stAng="10800000" swAng="-5400000"/>
                  <a:lnTo>
                    <a:pt x="21578" y="46945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497680" y="2556000"/>
              <a:ext cx="1553760" cy="3386520"/>
              <a:chOff x="2497680" y="2556000"/>
              <a:chExt cx="1553760" cy="3386520"/>
            </a:xfrm>
          </p:grpSpPr>
          <p:sp>
            <p:nvSpPr>
              <p:cNvPr id="205" name=""/>
              <p:cNvSpPr/>
              <p:nvPr/>
            </p:nvSpPr>
            <p:spPr>
              <a:xfrm>
                <a:off x="2498760" y="2556000"/>
                <a:ext cx="1552680" cy="3375000"/>
              </a:xfrm>
              <a:custGeom>
                <a:avLst/>
                <a:gdLst>
                  <a:gd name="textAreaLeft" fmla="*/ 360 w 1552680"/>
                  <a:gd name="textAreaRight" fmla="*/ 1552320 w 1552680"/>
                  <a:gd name="textAreaTop" fmla="*/ 360 h 3375000"/>
                  <a:gd name="textAreaBottom" fmla="*/ 3374640 h 3375000"/>
                </a:gdLst>
                <a:ahLst/>
                <a:rect l="textAreaLeft" t="textAreaTop" r="textAreaRight" b="textAreaBottom"/>
                <a:pathLst>
                  <a:path w="21600" h="46945">
                    <a:moveTo>
                      <a:pt x="22" y="0"/>
                    </a:moveTo>
                    <a:arcTo wR="22" hR="22" stAng="16200000" swAng="-5400000"/>
                    <a:lnTo>
                      <a:pt x="0" y="46923"/>
                    </a:lnTo>
                    <a:arcTo wR="22" hR="22" stAng="10800000" swAng="-5400000"/>
                    <a:lnTo>
                      <a:pt x="21578" y="4694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97680" y="2556000"/>
                <a:ext cx="1553040" cy="3386520"/>
              </a:xfrm>
              <a:custGeom>
                <a:avLst/>
                <a:gdLst>
                  <a:gd name="textAreaLeft" fmla="*/ 360 w 1553040"/>
                  <a:gd name="textAreaRight" fmla="*/ 1552680 w 1553040"/>
                  <a:gd name="textAreaTop" fmla="*/ 360 h 3386520"/>
                  <a:gd name="textAreaBottom" fmla="*/ 3386160 h 3386520"/>
                </a:gdLst>
                <a:ahLst/>
                <a:rect l="textAreaLeft" t="textAreaTop" r="textAreaRight" b="textAreaBottom"/>
                <a:pathLst>
                  <a:path w="21600" h="47095">
                    <a:moveTo>
                      <a:pt x="22" y="0"/>
                    </a:moveTo>
                    <a:arcTo wR="22" hR="22" stAng="16200000" swAng="-5400000"/>
                    <a:lnTo>
                      <a:pt x="0" y="47073"/>
                    </a:lnTo>
                    <a:arcTo wR="22" hR="22" stAng="10800000" swAng="-5400000"/>
                    <a:lnTo>
                      <a:pt x="21578" y="4709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" name=""/>
          <p:cNvGrpSpPr/>
          <p:nvPr/>
        </p:nvGrpSpPr>
        <p:grpSpPr>
          <a:xfrm>
            <a:off x="4722120" y="3809880"/>
            <a:ext cx="2208240" cy="460440"/>
            <a:chOff x="4722120" y="3809880"/>
            <a:chExt cx="2208240" cy="460440"/>
          </a:xfrm>
        </p:grpSpPr>
        <p:sp>
          <p:nvSpPr>
            <p:cNvPr id="208" name=""/>
            <p:cNvSpPr/>
            <p:nvPr/>
          </p:nvSpPr>
          <p:spPr>
            <a:xfrm>
              <a:off x="4724280" y="3809880"/>
              <a:ext cx="2202120" cy="4543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4722120" y="3809880"/>
              <a:ext cx="2208240" cy="460440"/>
              <a:chOff x="4722120" y="3809880"/>
              <a:chExt cx="2208240" cy="460440"/>
            </a:xfrm>
          </p:grpSpPr>
          <p:sp>
            <p:nvSpPr>
              <p:cNvPr id="210" name=""/>
              <p:cNvSpPr/>
              <p:nvPr/>
            </p:nvSpPr>
            <p:spPr>
              <a:xfrm>
                <a:off x="4724280" y="3809880"/>
                <a:ext cx="2202120" cy="4543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722120" y="3809880"/>
                <a:ext cx="220824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ary numera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4114800" y="2666880"/>
            <a:ext cx="380880" cy="2820960"/>
          </a:xfrm>
          <a:custGeom>
            <a:avLst/>
            <a:gdLst/>
            <a:ahLst/>
            <a:rect l="l" t="t" r="r" b="b"/>
            <a:pathLst>
              <a:path w="1059" h="7836">
                <a:moveTo>
                  <a:pt x="0" y="0"/>
                </a:moveTo>
                <a:cubicBezTo>
                  <a:pt x="263" y="0"/>
                  <a:pt x="528" y="326"/>
                  <a:pt x="528" y="652"/>
                </a:cubicBezTo>
                <a:lnTo>
                  <a:pt x="528" y="3264"/>
                </a:lnTo>
                <a:cubicBezTo>
                  <a:pt x="528" y="3591"/>
                  <a:pt x="793" y="3917"/>
                  <a:pt x="1058" y="3917"/>
                </a:cubicBezTo>
                <a:cubicBezTo>
                  <a:pt x="793" y="3917"/>
                  <a:pt x="528" y="4243"/>
                  <a:pt x="528" y="4570"/>
                </a:cubicBezTo>
                <a:lnTo>
                  <a:pt x="528" y="7182"/>
                </a:lnTo>
                <a:cubicBezTo>
                  <a:pt x="528" y="7508"/>
                  <a:pt x="263" y="7835"/>
                  <a:pt x="0" y="7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cima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ystem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990720" y="3352680"/>
            <a:ext cx="7680240" cy="1191960"/>
            <a:chOff x="990720" y="3352680"/>
            <a:chExt cx="7680240" cy="1191960"/>
          </a:xfrm>
        </p:grpSpPr>
        <p:sp>
          <p:nvSpPr>
            <p:cNvPr id="216" name=""/>
            <p:cNvSpPr/>
            <p:nvPr/>
          </p:nvSpPr>
          <p:spPr>
            <a:xfrm>
              <a:off x="990720" y="3352680"/>
              <a:ext cx="7680240" cy="118440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990720" y="3352680"/>
              <a:ext cx="7680240" cy="1191960"/>
              <a:chOff x="990720" y="3352680"/>
              <a:chExt cx="7680240" cy="1191960"/>
            </a:xfrm>
          </p:grpSpPr>
          <p:sp>
            <p:nvSpPr>
              <p:cNvPr id="218" name=""/>
              <p:cNvSpPr/>
              <p:nvPr/>
            </p:nvSpPr>
            <p:spPr>
              <a:xfrm>
                <a:off x="990720" y="3352680"/>
                <a:ext cx="7680240" cy="118440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991800" y="3352680"/>
                <a:ext cx="7639920" cy="1191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1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3      1       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 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2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100) + (1x10) + (2x1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300     +    10    +    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" name=""/>
          <p:cNvGrpSpPr/>
          <p:nvPr/>
        </p:nvGrpSpPr>
        <p:grpSpPr>
          <a:xfrm>
            <a:off x="2666160" y="2514600"/>
            <a:ext cx="1910520" cy="460440"/>
            <a:chOff x="2666160" y="2514600"/>
            <a:chExt cx="1910520" cy="460440"/>
          </a:xfrm>
        </p:grpSpPr>
        <p:sp>
          <p:nvSpPr>
            <p:cNvPr id="221" name=""/>
            <p:cNvSpPr/>
            <p:nvPr/>
          </p:nvSpPr>
          <p:spPr>
            <a:xfrm>
              <a:off x="2666880" y="2514600"/>
              <a:ext cx="190980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2666160" y="2514600"/>
              <a:ext cx="1910520" cy="460440"/>
              <a:chOff x="2666160" y="2514600"/>
              <a:chExt cx="1910520" cy="460440"/>
            </a:xfrm>
          </p:grpSpPr>
          <p:sp>
            <p:nvSpPr>
              <p:cNvPr id="223" name=""/>
              <p:cNvSpPr/>
              <p:nvPr/>
            </p:nvSpPr>
            <p:spPr>
              <a:xfrm>
                <a:off x="2666880" y="2514600"/>
                <a:ext cx="1909800" cy="45396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66160" y="2514600"/>
                <a:ext cx="190980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s   10s   1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" name="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19520" y="5105520"/>
            <a:ext cx="3200400" cy="609480"/>
          </a:xfrm>
          <a:prstGeom prst="roundRect">
            <a:avLst>
              <a:gd name="adj" fmla="val 25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system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990720" y="3352680"/>
            <a:ext cx="7223040" cy="2390040"/>
            <a:chOff x="990720" y="3352680"/>
            <a:chExt cx="7223040" cy="2390040"/>
          </a:xfrm>
        </p:grpSpPr>
        <p:sp>
          <p:nvSpPr>
            <p:cNvPr id="232" name=""/>
            <p:cNvSpPr/>
            <p:nvPr/>
          </p:nvSpPr>
          <p:spPr>
            <a:xfrm>
              <a:off x="990720" y="3352680"/>
              <a:ext cx="7223040" cy="22798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990720" y="3352680"/>
              <a:ext cx="7223040" cy="2390040"/>
              <a:chOff x="990720" y="3352680"/>
              <a:chExt cx="7223040" cy="2390040"/>
            </a:xfrm>
          </p:grpSpPr>
          <p:sp>
            <p:nvSpPr>
              <p:cNvPr id="234" name=""/>
              <p:cNvSpPr/>
              <p:nvPr/>
            </p:nvSpPr>
            <p:spPr>
              <a:xfrm>
                <a:off x="990720" y="3352680"/>
                <a:ext cx="7223040" cy="227988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991080" y="3352680"/>
                <a:ext cx="7182720" cy="239004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1      0       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1x 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0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(1x4) +   (0x2) + (1x1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4     +    0    +    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5 in deci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2666160" y="2514600"/>
            <a:ext cx="1834560" cy="460440"/>
            <a:chOff x="2666160" y="2514600"/>
            <a:chExt cx="1834560" cy="460440"/>
          </a:xfrm>
        </p:grpSpPr>
        <p:sp>
          <p:nvSpPr>
            <p:cNvPr id="237" name=""/>
            <p:cNvSpPr/>
            <p:nvPr/>
          </p:nvSpPr>
          <p:spPr>
            <a:xfrm>
              <a:off x="2666880" y="2514600"/>
              <a:ext cx="183384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2666160" y="2514600"/>
              <a:ext cx="1834560" cy="460440"/>
              <a:chOff x="2666160" y="2514600"/>
              <a:chExt cx="1834560" cy="460440"/>
            </a:xfrm>
          </p:grpSpPr>
          <p:sp>
            <p:nvSpPr>
              <p:cNvPr id="239" name=""/>
              <p:cNvSpPr/>
              <p:nvPr/>
            </p:nvSpPr>
            <p:spPr>
              <a:xfrm>
                <a:off x="2666880" y="2514600"/>
                <a:ext cx="1833840" cy="45396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666160" y="2514600"/>
                <a:ext cx="183348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s      2s     1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late 10011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nto a decimal numb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37360" y="2438280"/>
            <a:ext cx="2130480" cy="1009080"/>
            <a:chOff x="837360" y="2438280"/>
            <a:chExt cx="2130480" cy="1009080"/>
          </a:xfrm>
        </p:grpSpPr>
        <p:sp>
          <p:nvSpPr>
            <p:cNvPr id="247" name=""/>
            <p:cNvSpPr/>
            <p:nvPr/>
          </p:nvSpPr>
          <p:spPr>
            <a:xfrm>
              <a:off x="838080" y="2438280"/>
              <a:ext cx="2124360" cy="100332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837360" y="2438280"/>
              <a:ext cx="2130480" cy="1009080"/>
              <a:chOff x="837360" y="2438280"/>
              <a:chExt cx="2130480" cy="1009080"/>
            </a:xfrm>
          </p:grpSpPr>
          <p:sp>
            <p:nvSpPr>
              <p:cNvPr id="249" name=""/>
              <p:cNvSpPr/>
              <p:nvPr/>
            </p:nvSpPr>
            <p:spPr>
              <a:xfrm>
                <a:off x="838080" y="2438280"/>
                <a:ext cx="2124360" cy="100332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37360" y="2438280"/>
                <a:ext cx="213048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the base tw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umerals under th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values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"/>
          <p:cNvGrpSpPr/>
          <p:nvPr/>
        </p:nvGrpSpPr>
        <p:grpSpPr>
          <a:xfrm>
            <a:off x="761040" y="3511440"/>
            <a:ext cx="2226600" cy="995400"/>
            <a:chOff x="761040" y="3511440"/>
            <a:chExt cx="2226600" cy="995400"/>
          </a:xfrm>
        </p:grpSpPr>
        <p:sp>
          <p:nvSpPr>
            <p:cNvPr id="252" name=""/>
            <p:cNvSpPr/>
            <p:nvPr/>
          </p:nvSpPr>
          <p:spPr>
            <a:xfrm>
              <a:off x="762120" y="3511440"/>
              <a:ext cx="2225520" cy="99540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761040" y="3511440"/>
              <a:ext cx="2226600" cy="995400"/>
              <a:chOff x="761040" y="3511440"/>
              <a:chExt cx="2226600" cy="995400"/>
            </a:xfrm>
          </p:grpSpPr>
          <p:sp>
            <p:nvSpPr>
              <p:cNvPr id="254" name=""/>
              <p:cNvSpPr/>
              <p:nvPr/>
            </p:nvSpPr>
            <p:spPr>
              <a:xfrm>
                <a:off x="762120" y="3511440"/>
                <a:ext cx="2225520" cy="99540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1040" y="351144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>
            <a:off x="762120" y="3505320"/>
            <a:ext cx="2209680" cy="99036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388620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41911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430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574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146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733920" y="2438280"/>
            <a:ext cx="2224800" cy="734760"/>
            <a:chOff x="3733920" y="2438280"/>
            <a:chExt cx="2224800" cy="734760"/>
          </a:xfrm>
        </p:grpSpPr>
        <p:sp>
          <p:nvSpPr>
            <p:cNvPr id="264" name=""/>
            <p:cNvSpPr/>
            <p:nvPr/>
          </p:nvSpPr>
          <p:spPr>
            <a:xfrm>
              <a:off x="3733920" y="2438280"/>
              <a:ext cx="2212920" cy="72864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3733920" y="2438280"/>
              <a:ext cx="2224800" cy="734760"/>
              <a:chOff x="3733920" y="2438280"/>
              <a:chExt cx="2224800" cy="734760"/>
            </a:xfrm>
          </p:grpSpPr>
          <p:sp>
            <p:nvSpPr>
              <p:cNvPr id="266" name=""/>
              <p:cNvSpPr/>
              <p:nvPr/>
            </p:nvSpPr>
            <p:spPr>
              <a:xfrm>
                <a:off x="3733920" y="2438280"/>
                <a:ext cx="2211120" cy="72864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735360" y="2438280"/>
                <a:ext cx="2223360" cy="73476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ultiply throug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y the place values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3656880" y="3359160"/>
            <a:ext cx="2226240" cy="995400"/>
            <a:chOff x="3656880" y="3359160"/>
            <a:chExt cx="2226240" cy="995400"/>
          </a:xfrm>
        </p:grpSpPr>
        <p:sp>
          <p:nvSpPr>
            <p:cNvPr id="269" name=""/>
            <p:cNvSpPr/>
            <p:nvPr/>
          </p:nvSpPr>
          <p:spPr>
            <a:xfrm>
              <a:off x="3657600" y="3359160"/>
              <a:ext cx="2225520" cy="99540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3656880" y="3359160"/>
              <a:ext cx="2226240" cy="995400"/>
              <a:chOff x="3656880" y="3359160"/>
              <a:chExt cx="2226240" cy="995400"/>
            </a:xfrm>
          </p:grpSpPr>
          <p:sp>
            <p:nvSpPr>
              <p:cNvPr id="271" name=""/>
              <p:cNvSpPr/>
              <p:nvPr/>
            </p:nvSpPr>
            <p:spPr>
              <a:xfrm>
                <a:off x="3657600" y="3359160"/>
                <a:ext cx="2225520" cy="99540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656880" y="335916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>
            <a:off x="3657600" y="3352680"/>
            <a:ext cx="2209680" cy="99072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37339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4038480"/>
            <a:ext cx="2209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528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43434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588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52880" y="4343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5880" y="518148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95680" y="434340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72200" y="55627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38480" y="4343400"/>
            <a:ext cx="213372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72200" y="5867280"/>
            <a:ext cx="228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57600" y="4343400"/>
            <a:ext cx="25146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62485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474960" y="2438280"/>
            <a:ext cx="1955160" cy="1009080"/>
            <a:chOff x="6474960" y="2438280"/>
            <a:chExt cx="1955160" cy="1009080"/>
          </a:xfrm>
        </p:grpSpPr>
        <p:sp>
          <p:nvSpPr>
            <p:cNvPr id="291" name=""/>
            <p:cNvSpPr/>
            <p:nvPr/>
          </p:nvSpPr>
          <p:spPr>
            <a:xfrm>
              <a:off x="6477120" y="2438280"/>
              <a:ext cx="1946160" cy="100332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6474960" y="2438280"/>
              <a:ext cx="1955160" cy="1009080"/>
              <a:chOff x="6474960" y="2438280"/>
              <a:chExt cx="1955160" cy="1009080"/>
            </a:xfrm>
          </p:grpSpPr>
          <p:sp>
            <p:nvSpPr>
              <p:cNvPr id="293" name=""/>
              <p:cNvSpPr/>
              <p:nvPr/>
            </p:nvSpPr>
            <p:spPr>
              <a:xfrm>
                <a:off x="6477120" y="2438280"/>
                <a:ext cx="1946160" cy="100332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474960" y="2438280"/>
                <a:ext cx="195516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dd up th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olumn for th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decimal number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5568480" y="4192920"/>
            <a:ext cx="788760" cy="774000"/>
            <a:chOff x="5568480" y="4192920"/>
            <a:chExt cx="788760" cy="774000"/>
          </a:xfrm>
        </p:grpSpPr>
        <p:sp>
          <p:nvSpPr>
            <p:cNvPr id="296" name=""/>
            <p:cNvSpPr/>
            <p:nvPr/>
          </p:nvSpPr>
          <p:spPr>
            <a:xfrm rot="1980000">
              <a:off x="5721120" y="4412880"/>
              <a:ext cx="485640" cy="33444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568480" y="4192920"/>
              <a:ext cx="788760" cy="774000"/>
              <a:chOff x="5568480" y="4192920"/>
              <a:chExt cx="788760" cy="774000"/>
            </a:xfrm>
          </p:grpSpPr>
          <p:sp>
            <p:nvSpPr>
              <p:cNvPr id="298" name=""/>
              <p:cNvSpPr/>
              <p:nvPr/>
            </p:nvSpPr>
            <p:spPr>
              <a:xfrm rot="1980000">
                <a:off x="5667840" y="4309920"/>
                <a:ext cx="589680" cy="54000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980000">
                <a:off x="5772600" y="43318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5095800" y="4184280"/>
            <a:ext cx="813240" cy="810000"/>
            <a:chOff x="5095800" y="4184280"/>
            <a:chExt cx="813240" cy="810000"/>
          </a:xfrm>
        </p:grpSpPr>
        <p:sp>
          <p:nvSpPr>
            <p:cNvPr id="301" name=""/>
            <p:cNvSpPr/>
            <p:nvPr/>
          </p:nvSpPr>
          <p:spPr>
            <a:xfrm rot="2400000">
              <a:off x="5258880" y="4419720"/>
              <a:ext cx="487440" cy="3348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095800" y="4184280"/>
              <a:ext cx="813240" cy="810000"/>
              <a:chOff x="5095800" y="4184280"/>
              <a:chExt cx="813240" cy="810000"/>
            </a:xfrm>
          </p:grpSpPr>
          <p:sp>
            <p:nvSpPr>
              <p:cNvPr id="303" name=""/>
              <p:cNvSpPr/>
              <p:nvPr/>
            </p:nvSpPr>
            <p:spPr>
              <a:xfrm rot="2400000">
                <a:off x="5208120" y="4307040"/>
                <a:ext cx="588240" cy="56376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2400000">
                <a:off x="5338080" y="432576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5" name=""/>
          <p:cNvGrpSpPr/>
          <p:nvPr/>
        </p:nvGrpSpPr>
        <p:grpSpPr>
          <a:xfrm>
            <a:off x="4642920" y="4178520"/>
            <a:ext cx="810360" cy="805320"/>
            <a:chOff x="4642920" y="4178520"/>
            <a:chExt cx="810360" cy="805320"/>
          </a:xfrm>
        </p:grpSpPr>
        <p:sp>
          <p:nvSpPr>
            <p:cNvPr id="306" name=""/>
            <p:cNvSpPr/>
            <p:nvPr/>
          </p:nvSpPr>
          <p:spPr>
            <a:xfrm rot="2280000">
              <a:off x="4806720" y="4413240"/>
              <a:ext cx="485640" cy="3348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4642920" y="4178520"/>
              <a:ext cx="810360" cy="805320"/>
              <a:chOff x="4642920" y="4178520"/>
              <a:chExt cx="810360" cy="805320"/>
            </a:xfrm>
          </p:grpSpPr>
          <p:sp>
            <p:nvSpPr>
              <p:cNvPr id="308" name=""/>
              <p:cNvSpPr/>
              <p:nvPr/>
            </p:nvSpPr>
            <p:spPr>
              <a:xfrm rot="2280000">
                <a:off x="4752720" y="4300560"/>
                <a:ext cx="590040" cy="56088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2280000">
                <a:off x="4873680" y="432684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4263840" y="4184640"/>
            <a:ext cx="799200" cy="789840"/>
            <a:chOff x="4263840" y="4184640"/>
            <a:chExt cx="799200" cy="789840"/>
          </a:xfrm>
        </p:grpSpPr>
        <p:sp>
          <p:nvSpPr>
            <p:cNvPr id="311" name=""/>
            <p:cNvSpPr/>
            <p:nvPr/>
          </p:nvSpPr>
          <p:spPr>
            <a:xfrm rot="2100000">
              <a:off x="4421160" y="4411800"/>
              <a:ext cx="485640" cy="3348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4263840" y="4184640"/>
              <a:ext cx="799200" cy="789840"/>
              <a:chOff x="4263840" y="4184640"/>
              <a:chExt cx="799200" cy="789840"/>
            </a:xfrm>
          </p:grpSpPr>
          <p:sp>
            <p:nvSpPr>
              <p:cNvPr id="313" name=""/>
              <p:cNvSpPr/>
              <p:nvPr/>
            </p:nvSpPr>
            <p:spPr>
              <a:xfrm rot="2100000">
                <a:off x="4368600" y="4303440"/>
                <a:ext cx="589320" cy="55152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100000">
                <a:off x="4485600" y="432540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3728160" y="4129920"/>
            <a:ext cx="915480" cy="910800"/>
            <a:chOff x="3728160" y="4129920"/>
            <a:chExt cx="915480" cy="910800"/>
          </a:xfrm>
        </p:grpSpPr>
        <p:sp>
          <p:nvSpPr>
            <p:cNvPr id="316" name=""/>
            <p:cNvSpPr/>
            <p:nvPr/>
          </p:nvSpPr>
          <p:spPr>
            <a:xfrm rot="2400000">
              <a:off x="3894120" y="4419720"/>
              <a:ext cx="587520" cy="3333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3728160" y="4129920"/>
              <a:ext cx="915480" cy="910800"/>
              <a:chOff x="3728160" y="4129920"/>
              <a:chExt cx="915480" cy="910800"/>
            </a:xfrm>
          </p:grpSpPr>
          <p:sp>
            <p:nvSpPr>
              <p:cNvPr id="318" name=""/>
              <p:cNvSpPr/>
              <p:nvPr/>
            </p:nvSpPr>
            <p:spPr>
              <a:xfrm rot="2400000">
                <a:off x="3852720" y="4270320"/>
                <a:ext cx="666360" cy="63000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400000">
                <a:off x="3985560" y="4305240"/>
                <a:ext cx="59004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6628320" y="4724280"/>
            <a:ext cx="410760" cy="1740600"/>
            <a:chOff x="6628320" y="4724280"/>
            <a:chExt cx="410760" cy="1740600"/>
          </a:xfrm>
        </p:grpSpPr>
        <p:sp>
          <p:nvSpPr>
            <p:cNvPr id="321" name=""/>
            <p:cNvSpPr/>
            <p:nvPr/>
          </p:nvSpPr>
          <p:spPr>
            <a:xfrm>
              <a:off x="6629400" y="4724280"/>
              <a:ext cx="409680" cy="1737000"/>
            </a:xfrm>
            <a:custGeom>
              <a:avLst/>
              <a:gdLst>
                <a:gd name="textAreaLeft" fmla="*/ 360 w 409680"/>
                <a:gd name="textAreaRight" fmla="*/ 409320 w 409680"/>
                <a:gd name="textAreaTop" fmla="*/ 360 h 1737000"/>
                <a:gd name="textAreaBottom" fmla="*/ 1736640 h 1737000"/>
              </a:gdLst>
              <a:ahLst/>
              <a:rect l="textAreaLeft" t="textAreaTop" r="textAreaRight" b="textAreaBottom"/>
              <a:pathLst>
                <a:path w="21600" h="91520">
                  <a:moveTo>
                    <a:pt x="83" y="0"/>
                  </a:moveTo>
                  <a:arcTo wR="83" hR="83" stAng="16200000" swAng="-5400000"/>
                  <a:lnTo>
                    <a:pt x="0" y="91437"/>
                  </a:lnTo>
                  <a:arcTo wR="83" hR="83" stAng="10800000" swAng="-5400000"/>
                  <a:lnTo>
                    <a:pt x="21517" y="91520"/>
                  </a:lnTo>
                  <a:arcTo wR="83" hR="83" stAng="5400000" swAng="-5400000"/>
                  <a:lnTo>
                    <a:pt x="21600" y="83"/>
                  </a:lnTo>
                  <a:arcTo wR="83" hR="8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6628320" y="4724280"/>
              <a:ext cx="410760" cy="1740600"/>
              <a:chOff x="6628320" y="4724280"/>
              <a:chExt cx="410760" cy="1740600"/>
            </a:xfrm>
          </p:grpSpPr>
          <p:sp>
            <p:nvSpPr>
              <p:cNvPr id="323" name=""/>
              <p:cNvSpPr/>
              <p:nvPr/>
            </p:nvSpPr>
            <p:spPr>
              <a:xfrm>
                <a:off x="6629400" y="4724280"/>
                <a:ext cx="409680" cy="1737000"/>
              </a:xfrm>
              <a:custGeom>
                <a:avLst/>
                <a:gdLst>
                  <a:gd name="textAreaLeft" fmla="*/ 360 w 409680"/>
                  <a:gd name="textAreaRight" fmla="*/ 409320 w 409680"/>
                  <a:gd name="textAreaTop" fmla="*/ 360 h 1737000"/>
                  <a:gd name="textAreaBottom" fmla="*/ 1736640 h 1737000"/>
                </a:gdLst>
                <a:ahLst/>
                <a:rect l="textAreaLeft" t="textAreaTop" r="textAreaRight" b="textAreaBottom"/>
                <a:pathLst>
                  <a:path w="21600" h="91520">
                    <a:moveTo>
                      <a:pt x="83" y="0"/>
                    </a:moveTo>
                    <a:arcTo wR="83" hR="83" stAng="16200000" swAng="-5400000"/>
                    <a:lnTo>
                      <a:pt x="0" y="91437"/>
                    </a:lnTo>
                    <a:arcTo wR="83" hR="83" stAng="10800000" swAng="-5400000"/>
                    <a:lnTo>
                      <a:pt x="21517" y="91520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628320" y="4724280"/>
                <a:ext cx="410040" cy="1740600"/>
              </a:xfrm>
              <a:custGeom>
                <a:avLst/>
                <a:gdLst>
                  <a:gd name="textAreaLeft" fmla="*/ 360 w 410040"/>
                  <a:gd name="textAreaRight" fmla="*/ 409680 w 410040"/>
                  <a:gd name="textAreaTop" fmla="*/ 360 h 1740600"/>
                  <a:gd name="textAreaBottom" fmla="*/ 1740240 h 1740600"/>
                </a:gdLst>
                <a:ahLst/>
                <a:rect l="textAreaLeft" t="textAreaTop" r="textAreaRight" b="textAreaBottom"/>
                <a:pathLst>
                  <a:path w="21600" h="91629">
                    <a:moveTo>
                      <a:pt x="83" y="0"/>
                    </a:moveTo>
                    <a:arcTo wR="83" hR="83" stAng="16200000" swAng="-5400000"/>
                    <a:lnTo>
                      <a:pt x="0" y="91546"/>
                    </a:lnTo>
                    <a:arcTo wR="83" hR="83" stAng="10800000" swAng="-5400000"/>
                    <a:lnTo>
                      <a:pt x="21517" y="916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2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2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2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2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2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	</a:t>
                </a: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2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>
            <a:off x="6934320" y="4724280"/>
            <a:ext cx="457200" cy="1676520"/>
          </a:xfrm>
          <a:custGeom>
            <a:avLst/>
            <a:gdLst/>
            <a:ahLst/>
            <a:rect l="l" t="t" r="r" b="b"/>
            <a:pathLst>
              <a:path w="1271" h="4658">
                <a:moveTo>
                  <a:pt x="0" y="0"/>
                </a:moveTo>
                <a:cubicBezTo>
                  <a:pt x="317" y="0"/>
                  <a:pt x="635" y="194"/>
                  <a:pt x="635" y="388"/>
                </a:cubicBezTo>
                <a:lnTo>
                  <a:pt x="635" y="1940"/>
                </a:lnTo>
                <a:cubicBezTo>
                  <a:pt x="635" y="2134"/>
                  <a:pt x="953" y="2328"/>
                  <a:pt x="1270" y="2328"/>
                </a:cubicBezTo>
                <a:cubicBezTo>
                  <a:pt x="953" y="2328"/>
                  <a:pt x="635" y="2523"/>
                  <a:pt x="635" y="2717"/>
                </a:cubicBezTo>
                <a:lnTo>
                  <a:pt x="635" y="4269"/>
                </a:lnTo>
                <a:cubicBezTo>
                  <a:pt x="635" y="4463"/>
                  <a:pt x="317" y="4657"/>
                  <a:pt x="0" y="46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7457760" y="5562720"/>
            <a:ext cx="3236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772400" y="3419280"/>
            <a:ext cx="1440" cy="215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990720" y="5532840"/>
            <a:ext cx="3500280" cy="510120"/>
            <a:chOff x="990720" y="5532840"/>
            <a:chExt cx="3500280" cy="510120"/>
          </a:xfrm>
        </p:grpSpPr>
        <p:sp>
          <p:nvSpPr>
            <p:cNvPr id="329" name=""/>
            <p:cNvSpPr/>
            <p:nvPr/>
          </p:nvSpPr>
          <p:spPr>
            <a:xfrm>
              <a:off x="990720" y="5611680"/>
              <a:ext cx="3500280" cy="355680"/>
            </a:xfrm>
            <a:prstGeom prst="roundRect">
              <a:avLst>
                <a:gd name="adj" fmla="val 444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990720" y="5532840"/>
              <a:ext cx="3498840" cy="510120"/>
              <a:chOff x="990720" y="5532840"/>
              <a:chExt cx="3498840" cy="510120"/>
            </a:xfrm>
          </p:grpSpPr>
          <p:sp>
            <p:nvSpPr>
              <p:cNvPr id="331" name=""/>
              <p:cNvSpPr/>
              <p:nvPr/>
            </p:nvSpPr>
            <p:spPr>
              <a:xfrm>
                <a:off x="990720" y="5610240"/>
                <a:ext cx="3498840" cy="355680"/>
              </a:xfrm>
              <a:prstGeom prst="roundRect">
                <a:avLst>
                  <a:gd name="adj" fmla="val 44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990720" y="5532840"/>
                <a:ext cx="3498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1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19 in deci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990960" cy="39337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Symbols and Tex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04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ach letter and symbol in a text document must be translated into a binary number for storage in the comput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tandardized means of storing these cod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SCI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American Standard Code for Information Interchang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BCDI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Extended Binary Coded Decimal Interchange Cod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CODE (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tended ASCII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ictures must be translated into a binary format for storage in the comput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picture is broken down into small element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se elements are called Pixels (Picture Elements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igitizer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device that converts a picture into a binary format for storage in the computer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amples of digitizers: scanner, digital camer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ized picture of a tig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943600" cy="397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lack and whit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xel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e either 0 or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733920" cy="3035160"/>
          </a:xfrm>
          <a:prstGeom prst="rect">
            <a:avLst/>
          </a:prstGeom>
          <a:ln w="0">
            <a:noFill/>
          </a:ln>
        </p:spPr>
      </p:pic>
      <p:grpSp>
        <p:nvGrpSpPr>
          <p:cNvPr id="344" name=""/>
          <p:cNvGrpSpPr/>
          <p:nvPr/>
        </p:nvGrpSpPr>
        <p:grpSpPr>
          <a:xfrm>
            <a:off x="5713920" y="2133720"/>
            <a:ext cx="2845440" cy="4209480"/>
            <a:chOff x="5713920" y="2133720"/>
            <a:chExt cx="2845440" cy="4209480"/>
          </a:xfrm>
        </p:grpSpPr>
        <p:sp>
          <p:nvSpPr>
            <p:cNvPr id="345" name=""/>
            <p:cNvSpPr/>
            <p:nvPr/>
          </p:nvSpPr>
          <p:spPr>
            <a:xfrm>
              <a:off x="5715000" y="2133720"/>
              <a:ext cx="2809800" cy="4184640"/>
            </a:xfrm>
            <a:custGeom>
              <a:avLst/>
              <a:gdLst>
                <a:gd name="textAreaLeft" fmla="*/ 360 w 2809800"/>
                <a:gd name="textAreaRight" fmla="*/ 2809440 w 2809800"/>
                <a:gd name="textAreaTop" fmla="*/ 360 h 4184640"/>
                <a:gd name="textAreaBottom" fmla="*/ 4184280 h 4184640"/>
              </a:gdLst>
              <a:ahLst/>
              <a:rect l="textAreaLeft" t="textAreaTop" r="textAreaRight" b="textAreaBottom"/>
              <a:pathLst>
                <a:path w="21600" h="32168">
                  <a:moveTo>
                    <a:pt x="12" y="0"/>
                  </a:moveTo>
                  <a:arcTo wR="12" hR="12" stAng="16200000" swAng="-5400000"/>
                  <a:lnTo>
                    <a:pt x="0" y="32156"/>
                  </a:lnTo>
                  <a:arcTo wR="12" hR="12" stAng="10800000" swAng="-5400000"/>
                  <a:lnTo>
                    <a:pt x="21588" y="32168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5713920" y="2133720"/>
              <a:ext cx="2845440" cy="4209480"/>
              <a:chOff x="5713920" y="2133720"/>
              <a:chExt cx="2845440" cy="4209480"/>
            </a:xfrm>
          </p:grpSpPr>
          <p:sp>
            <p:nvSpPr>
              <p:cNvPr id="347" name=""/>
              <p:cNvSpPr/>
              <p:nvPr/>
            </p:nvSpPr>
            <p:spPr>
              <a:xfrm>
                <a:off x="5715000" y="2133720"/>
                <a:ext cx="2809800" cy="4184640"/>
              </a:xfrm>
              <a:custGeom>
                <a:avLst/>
                <a:gdLst>
                  <a:gd name="textAreaLeft" fmla="*/ 360 w 2809800"/>
                  <a:gd name="textAreaRight" fmla="*/ 2809440 w 2809800"/>
                  <a:gd name="textAreaTop" fmla="*/ 360 h 4184640"/>
                  <a:gd name="textAreaBottom" fmla="*/ 4184280 h 4184640"/>
                </a:gdLst>
                <a:ahLst/>
                <a:rect l="textAreaLeft" t="textAreaTop" r="textAreaRight" b="textAreaBottom"/>
                <a:pathLst>
                  <a:path w="21600" h="32168">
                    <a:moveTo>
                      <a:pt x="12" y="0"/>
                    </a:moveTo>
                    <a:arcTo wR="12" hR="12" stAng="16200000" swAng="-5400000"/>
                    <a:lnTo>
                      <a:pt x="0" y="32156"/>
                    </a:lnTo>
                    <a:arcTo wR="12" hR="12" stAng="10800000" swAng="-5400000"/>
                    <a:lnTo>
                      <a:pt x="21588" y="32168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3920" y="2133720"/>
                <a:ext cx="2845440" cy="4209480"/>
              </a:xfrm>
              <a:custGeom>
                <a:avLst/>
                <a:gdLst>
                  <a:gd name="textAreaLeft" fmla="*/ 360 w 2845440"/>
                  <a:gd name="textAreaRight" fmla="*/ 2845080 w 2845440"/>
                  <a:gd name="textAreaTop" fmla="*/ 360 h 4209480"/>
                  <a:gd name="textAreaBottom" fmla="*/ 4209120 h 4209480"/>
                </a:gdLst>
                <a:ahLst/>
                <a:rect l="textAreaLeft" t="textAreaTop" r="textAreaRight" b="textAreaBottom"/>
                <a:pathLst>
                  <a:path w="21600" h="31953">
                    <a:moveTo>
                      <a:pt x="12" y="0"/>
                    </a:moveTo>
                    <a:arcTo wR="12" hR="12" stAng="16200000" swAng="-5400000"/>
                    <a:lnTo>
                      <a:pt x="0" y="31941"/>
                    </a:lnTo>
                    <a:arcTo wR="12" hR="12" stAng="10800000" swAng="-5400000"/>
                    <a:lnTo>
                      <a:pt x="21588" y="3195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00000000000000000000000001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0000000000010000000000000000000000000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000000000100000000000000000000000000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00000000010000000000000000000000000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000000000010110000000000000000000000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10000000000011110000000000000000000000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100100000000011111010101011100000000000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111101110111111101000000001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00100000110111110111111011000000000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000000111110111101011101000000000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100011101010101011010000000000010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01000000111010101011010101000000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100000010101001000000000000000000011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100101010000000000000000000000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011001010000000000000000000010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100101010101001001010100000000000000010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0001111110100101101110101011000000010110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1111010111111111110101101101011111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10111110111111111111111111101111110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101111111111111111111111111111111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000111011111111111111111111111111111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010011111111111111111111111111111111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10101111111111111111110111111001111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11101111111111111111111111101101010111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111111111111111110101101111011110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0111011010011111101010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1111111100101111011010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0101111101110111010011111101010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111111111010111111101111110111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111101101010110000101111111111111101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ray-Sca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ach pixel contains a value representing some shade of gray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more shades of gray possible, the more memory will be neede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 shades of gray needs 2 bits per pix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, 01, 10, 1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8 shades of gray needs 3 bits per pix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0, 001, 010, 011, 100, 101, 110, 11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64 shades of gray needs 6 bits per pix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0000, 000001, … 111110, 11111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238120" cy="48769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7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ssage transmission from the Arecibo radio telescope in Puerto Rico to other star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aeg, koht, arvestus, praktik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kku ca 16 loengu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umid on iseõppelised: juhendamist neis ei toim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 lõpeb kirjaliku eksamig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75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of Binary Inform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pa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960840" y="2362320"/>
            <a:ext cx="6998400" cy="3386160"/>
            <a:chOff x="960840" y="2362320"/>
            <a:chExt cx="6998400" cy="3386160"/>
          </a:xfrm>
        </p:grpSpPr>
        <p:sp>
          <p:nvSpPr>
            <p:cNvPr id="357" name=""/>
            <p:cNvSpPr/>
            <p:nvPr/>
          </p:nvSpPr>
          <p:spPr>
            <a:xfrm>
              <a:off x="990720" y="2362320"/>
              <a:ext cx="6929280" cy="3376440"/>
            </a:xfrm>
            <a:prstGeom prst="roundRect">
              <a:avLst>
                <a:gd name="adj" fmla="val 46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960840" y="2362320"/>
              <a:ext cx="6998400" cy="3386160"/>
              <a:chOff x="960840" y="2362320"/>
              <a:chExt cx="6998400" cy="3386160"/>
            </a:xfrm>
          </p:grpSpPr>
          <p:sp>
            <p:nvSpPr>
              <p:cNvPr id="359" name=""/>
              <p:cNvSpPr/>
              <p:nvPr/>
            </p:nvSpPr>
            <p:spPr>
              <a:xfrm>
                <a:off x="990720" y="2362320"/>
                <a:ext cx="6927840" cy="3375000"/>
              </a:xfrm>
              <a:prstGeom prst="roundRect">
                <a:avLst>
                  <a:gd name="adj" fmla="val 4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960840" y="2362320"/>
                <a:ext cx="6998400" cy="3386160"/>
                <a:chOff x="960840" y="2362320"/>
                <a:chExt cx="6998400" cy="338616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990720" y="2362320"/>
                  <a:ext cx="6927840" cy="337500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60840" y="2362320"/>
                  <a:ext cx="6998400" cy="338616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Unit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Approximate Siz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t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nary digi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nibbl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4 bi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8 bit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charact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kilo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/2 page, double spac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e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48,576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00,000 pag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illion byt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gi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73,741,8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million pag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llion byt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er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rillion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billion pag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ac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clarative: statement of be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arts knowledg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structio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ve: demands ac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trols information or activity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struction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st be stored within the computer before us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st be stored in binary for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set of binary instructions is called a progra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ollection of instructions for the computer to perform one by o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chine Languag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language of the computing machi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l instructions must be in the form of binary numbers (binary code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tored-program Computer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so known as the von Neumann-type computer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s memory - a place to keep both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ctions (ie program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 the needed information (ie data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eded for computation by the computer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naloog vs diskre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idevad ehk analoog-asj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aga arvud, murrud jm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igonomeetri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line analüü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ne füüs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õtmised, tugevus jms klassikaline insenerivär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tkevad ehk diskreetsed asj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äisarv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kade struktuur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374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8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llega ja milleks tegeleda? Kaks keerukalt seotud poolus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titeadus: teha võimalikult keerulisi asju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mertsrakendused: kliendile meelepäraseid asj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379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060720" y="2519280"/>
            <a:ext cx="1440" cy="12607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55840" y="2879640"/>
            <a:ext cx="5024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eneriasjandus: teha kõike lihtsama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rvutitea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"/>
            <a:ext cx="7848720" cy="75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temaatiline arvutitea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ebra erihar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atav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ruk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aktilisem arvutitea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oritm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ifitseerimine, järelduste automatiseer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Õpp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led ja kompilaator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rüpto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eel praktilisem arvutitea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mebaaside teooria ja tehnoloogi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süsteemide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graafika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rgusüsteemide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386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kommertsrakend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-720720"/>
            <a:ext cx="7848720" cy="852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iatarberakendus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d, draiverid jm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redaktorid, brauserid, epost jne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ised võrgurakendused: google, youtube, skype, .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äng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ugu utilii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vahen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o, raamatupidamissüsteemide jms toor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rirakendus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ngarakendused, telekomirakendused jn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aalsed lao- ja tellimissüstee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rma andmebaas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rma süsteemide sidu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391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sti ülikoolikool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jaloo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jandusteaduskon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ktroon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überneetika instituu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tist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usmeetodite teoreet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ud matemaat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ttevõtt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396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materjalid ja töö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O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ühtegi konkreetset õpiku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 osa materjale ilmub loengute eel või järel (reeglina samal päeval)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rku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Alati on olemas loengu üldplaan ja põhipunktid, kuid palju seletavaid detaile on võrgus puud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www.lambda.ee/index/itv0010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materjale on nii eesti- kui ingliskeels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aks otsestele loengumaterjalidele on võrgus antud ka muud loengu teema omandamiseks vajalikud materjalid, enamasti ingliskeels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etavaid detaile saab kuulda ainult loengus käies. Iseõppimine on teoreetiliselt võimalik, kuid on raske ja ajamahuka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praktiliste töödena (arvutil) kasutame peamiselt David Ecki praktikumide osi ja tarkvar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muud kohustuslikud tööd on lihtsalt lugemisülesand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80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algu soovitav kirja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25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irjan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ul Grahami essee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w Hacker’s Dictionary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: mõtlemisest tõestamisen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Cathedral and the Bazaa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nu manifest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oovitatavad igapäevaselt loetavad ling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news.ycombinator.co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ww.reddit.co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ww.dzone.co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ww.slashdot.org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ww.news.co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 vaata kursuse saidilt juurde!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85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</a:t>
            </a:r>
            <a:r>
              <a:rPr b="1" i="1" lang="en-GB" sz="2400" spc="-1" strike="noStrike">
                <a:solidFill>
                  <a:srgbClr val="000099"/>
                </a:solidFill>
                <a:latin typeface="Bitstream Vera Sans"/>
              </a:rPr>
              <a:t>esialgne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loengukav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aata: www.lambda.ee/index/itv0010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90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iistvara ja tarkvar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üüsilised, käegakatsutavad osa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d: klaviatuur, monitor, integraalskeemid jm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 ja andm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 on jada instruktsioo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95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391520" y="4191120"/>
            <a:ext cx="1357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</dc:title>
</cp:coreProperties>
</file>